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204-F563-419C-AA9F-2BB22DD8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642-D474-4FFB-AC2C-217E2C5B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F35-C443-47C0-9B5B-01C7A1C2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26E-3477-438B-A269-024772B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B36-3617-4AF8-A69E-A63CECEA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6BF-7007-414D-8C15-072C9729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603F-BCC5-4853-8FF6-2884953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5205-B1B4-4264-8918-4F2582D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94A-6585-4243-A8D7-568F69D5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476-60AE-44E4-8D21-15311198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5235-6E97-4744-87E6-2075956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98C-C77E-4BD6-8FCE-C26D8635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E70C-3491-41F3-8B90-7A808A7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494-B58F-4270-996B-9636949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42BE-F63D-4524-89B9-DDD6EDD4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196-CC38-490D-8482-A3C772E3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072F-6C05-44BE-B796-FA4CFC48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337-CA6C-4B45-B576-4C073EE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AE3-B199-471E-B3E7-3DAD598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6AC-8D65-4C30-993C-11CAD7B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CF7-9173-4836-B194-156C31D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0F6-8CE2-4520-A7C3-4B098CF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8D8-3908-4334-85D3-E403EAF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89B-84D6-42C8-B9BD-8A75505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5CA-C5DB-4A75-8F7E-7FBA1583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D3D-578B-4313-A588-21AA7433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l-PH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l-PH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user</cp:lastModifiedBy>
  <dcterms:modified xsi:type="dcterms:W3CDTF">2012-07-02T11:44:33Z</dcterms:modified>
  <cp:revision>2</cp:revision>
  <dc:subject/>
  <dc:title>Proble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